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860-1CF8-49BE-8254-B07BBFAA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A08-4044-4DCF-9DB3-FDD57375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14D-139A-4BE4-90AC-EB622354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579-C6D0-4B1E-A62B-6493462C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F143-54BA-4CEE-996B-2B2E7DF2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AC6C-D321-428C-8C41-50BE60F4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4513-857C-4A45-A8E1-EDC1AFAF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99DE-EB7C-462B-9482-A1F75E85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6156-B79E-44FD-BDF1-D4B19556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8A2E-B90B-44D5-A940-A9F7995D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6400-E72D-4406-9BFE-EFD08EEC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86E-1B8D-4243-9753-C7E28156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D7B4-AB1C-4A4C-95F8-F6F72B75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8E53-1266-4FCA-9CDA-A27F6DA6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7D32-2E01-4C09-9B86-423E07CE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DD88-1705-4083-9884-BAF301E5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09C0-91FA-44E2-98BD-034A3E2F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326-C8D3-49D0-A129-DD6821E6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C83-166D-42B2-9C07-3BC4B963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9E8-03AD-4BA3-AAE6-1D4D712D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C26-1467-4415-8592-7DB7B3A5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9BC-F480-402C-9AFC-2ECE6E1B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44E-1FA2-4967-AFB3-D89417D9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AC0-8306-466E-A251-FA0C2711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589E-DFDD-46A9-8DED-6D23A7B31C59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46CC-A5F2-4625-8BDE-938F24BB8BA2}" type="slidenum">
              <a:rPr b="0" lang="zh-CN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Comic Sans MS"/>
              </a:rPr>
              <a:t>My Dream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mic Sans MS"/>
              </a:rPr>
              <a:t>By  Tina (</a:t>
            </a:r>
            <a:r>
              <a:rPr b="0" lang="zh-CN" sz="3200" spc="-1" strike="noStrike">
                <a:solidFill>
                  <a:srgbClr val="ffffff"/>
                </a:solidFill>
                <a:latin typeface="Comic Sans MS"/>
              </a:rPr>
              <a:t>杨珺汀</a:t>
            </a:r>
            <a:r>
              <a:rPr b="0" lang="zh-CN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Comic Sans MS"/>
              </a:rPr>
              <a:t>Family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03280" y="1974960"/>
            <a:ext cx="6912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ddddd"/>
                </a:solidFill>
                <a:latin typeface="Comic Sans MS"/>
              </a:rPr>
              <a:t>Outline of my Dream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uild up my own magazine tea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read at least 1000 boo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have a soul mate as my partner, and build our future toge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ake a fortu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ake my family live a healthy and happ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Comic Sans MS"/>
              </a:rPr>
              <a:t>Magazine Team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703200">
            <a:off x="6156000" y="5300640"/>
            <a:ext cx="244800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 rot="21461400">
            <a:off x="2771280" y="5084280"/>
            <a:ext cx="3024360" cy="1001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 rot="811800">
            <a:off x="2916360" y="3860640"/>
            <a:ext cx="3876480" cy="609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 rot="21190200">
            <a:off x="324000" y="2276280"/>
            <a:ext cx="6551640" cy="74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 rot="20827800">
            <a:off x="684000" y="3933360"/>
            <a:ext cx="1790640" cy="866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 rot="20590200">
            <a:off x="7092720" y="4005000"/>
            <a:ext cx="1819080" cy="657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 rot="1061400">
            <a:off x="394920" y="5516280"/>
            <a:ext cx="1728720" cy="760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 rot="619200">
            <a:off x="7020000" y="2707920"/>
            <a:ext cx="17240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ddddd"/>
                </a:solidFill>
                <a:latin typeface="Comic Sans MS"/>
              </a:rPr>
              <a:t>Magazine Team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84072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Comic Sans MS"/>
              </a:rPr>
              <a:t>Books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948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Comic Sans MS"/>
              </a:rPr>
              <a:t>Partner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6247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Comic Sans MS"/>
              </a:rPr>
              <a:t>Make a Fortune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7273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Comic Sans MS"/>
              </a:rPr>
              <a:t>Make a Fortune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769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ddddd"/>
                </a:solidFill>
                <a:latin typeface="Comic Sans MS"/>
              </a:rPr>
              <a:t>Make a Fortune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5104" t="22638" r="4053" b="6683"/>
          <a:stretch/>
        </p:blipFill>
        <p:spPr>
          <a:xfrm>
            <a:off x="1332000" y="1900080"/>
            <a:ext cx="756108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5:34:35Z</dcterms:created>
  <dc:creator>yjt</dc:creator>
  <dc:description/>
  <dc:language>en-US</dc:language>
  <cp:lastModifiedBy>yjt</cp:lastModifiedBy>
  <dcterms:modified xsi:type="dcterms:W3CDTF">2011-05-21T16:40:58Z</dcterms:modified>
  <cp:revision>2</cp:revision>
  <dc:subject/>
  <dc:title>My Dream</dc:title>
</cp:coreProperties>
</file>